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0509-649A-4D50-B8E3-F2DB17172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gging for Beginners, Communicating with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be respectful of others and be creative with your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l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gging is your gateway to the world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g is short for the word “weblog.” A blog is an online journal.  It’s actually an online conversation, because after you post a blog entry, people can write comments about what you wrote.  In order to blog you need a blog host.  21 classes and edublogs are great ones to use for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people blog!  It’s a fun way for students to express what they are lear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teachers even blo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important to always think about your audience when you write.  When you write on paper, your audience is probably just your teacher and perhaps your classmates.  When you write on a blog, your audience could be anyone on the planet!  That’s a big aud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tips for getting started.  Every blog entry needs a title, and remember that titles always begin with capital letters.  Every time you write you need to think about your topic and purpose for writing.  Sometimes your teacher will give you a topic and sometimes you may get to choose your own topic.  Always use your best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82F-3F68-48BB-949D-9BFA2607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84A-3A4B-43E2-8CA6-D2A1E5E7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5C7-D31B-4E03-9849-C9B9A499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BF6-EB80-430E-9C5C-6A1FF06E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B7C-DF3F-45DA-9672-09D69868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B2C-FBDE-4F22-9F55-3B428496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CD5-5C6C-44F9-A32E-0C99B327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2E1-FEA8-49C0-A60C-1967CA56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E4B-17E6-4207-B564-476BEFB2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B46-336F-48C2-83C7-B91B0F86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A1A-265F-4583-A94B-9386032D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E49-DA95-45D7-9D21-545AA6A2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302E-9F37-434D-80FF-305FF07E3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ogging for Beginn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cating with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11480" y="5565600"/>
            <a:ext cx="50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rieda Foxw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chnology Integration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xington Distric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Important Things to Rem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0666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ways use your best writing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oofread and edit your work.  Check for capital letters, punctuation, and clear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you write can be read by anyone.  Don’t write anything you wouldn’t w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grandmother to rea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nly use words that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ppropriate for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411480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re 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58128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ver give out any personal information on your blog or in comments.  That means don’t tell your address, your phone number, your school, or your last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e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d re-read before you click Publis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1027080"/>
            <a:ext cx="556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ways be respectful of others with everything you w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Be creative in your thinking and elaborate on your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100080"/>
            <a:ext cx="4971960" cy="6629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91320" y="1523880"/>
            <a:ext cx="2895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Blog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is y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gate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o t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worl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 is a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371600"/>
            <a:ext cx="7467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G is short for the word “weblo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log is an online journal.  It’s like a di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currently over 70 million blo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Internet.  Some people have more than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271476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5715000"/>
            <a:ext cx="312408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76920" y="5562720"/>
            <a:ext cx="3295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tudents Blo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1319040"/>
            <a:ext cx="80010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eachers Blo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o is your audience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en you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22096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ce a blog entry is publish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completely publ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33280" y="3341520"/>
            <a:ext cx="5375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means that when you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g writing, your aud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the entire worl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g writing is real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a real aud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do you write a blog e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5840" y="990720"/>
            <a:ext cx="8174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blog entry needs a tit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s always begin with capital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about your topic and purpose for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your best writing when you are wri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your blog.  That means wri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sentences that begin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tal letters and end with peri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ways READ and RE-READ what you wr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fore you click Pub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81680" y="35053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What do you write about on a blo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2920" y="4267080"/>
            <a:ext cx="8647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thing you’ve learned in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ook you’ve been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ersonal narrative of an experience in you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opic you’ve resear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opinion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4120" y="2590920"/>
            <a:ext cx="37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 are some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5308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Why blog instead of just writing in a note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44792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on a blog is like starting a conversation.  When you post a blog entry you are inviting others to write comments about what you said in your blo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gging allows you to share your ideas and get feedback from oth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gging is an online text conversation that you can have with anyone in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’s more FU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You might receive a comment from the person next to you or from someone as far away as Shangha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3627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0:08:29Z</dcterms:created>
  <dc:creator> LCSD1</dc:creator>
  <dc:description/>
  <dc:language>en-US</dc:language>
  <cp:lastModifiedBy> LCSD1</cp:lastModifiedBy>
  <dcterms:modified xsi:type="dcterms:W3CDTF">2008-06-24T01:28:28Z</dcterms:modified>
  <cp:revision>8</cp:revision>
  <dc:subject/>
  <dc:title>Blogging for Beginners:</dc:title>
</cp:coreProperties>
</file>